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BC93-DE6C-4D11-90E1-673C1F304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7E09-A99B-4199-9350-1657E3BA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7434-0A83-45B9-BDC5-86B1B352F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7562-09B8-424C-BC08-66E59D893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6C4D-7E73-4AF2-8D4E-E0BDA1B1A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C696-DE92-4D43-9F67-59BD4853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A8C5-5A39-410D-8F8F-42D7F2D6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74B0-65BC-42B4-A981-E366E157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D663-F093-45AE-83FB-4287C3BA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3E3E-2C80-4207-82D4-1F726F3F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A6121-C5E3-4646-A314-E6B34785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496F-08DB-46E6-AE20-16CCF9F3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C85D-92D8-4977-A9A9-76129927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64526-E7EE-474B-AC20-99E4CCB9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21F1-E009-466F-B9FF-8D488D38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57BE-FD21-4302-B918-1BB4B5A6C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448C-B2E6-4475-81FE-505EFE6EF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A6A3-E2C5-447E-9084-9A3A1B65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9C92-61F9-4D95-A7A0-325B1843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26A8-E927-471C-98F6-08034D73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5FA5-EFCA-46B4-A21C-F2D80B84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8426-6766-46CB-8AF8-A8CC1809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65A4-AAC0-4572-82BF-658AC36F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7176-45CF-4394-AB94-7951187C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E173-925B-480E-B62C-FC82C2B728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9FB3-40C6-4A61-9253-55174CD22F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de.ct.gov/sde/cwp/view.asp?a=2678&amp;Q=320730" TargetMode="External"/><Relationship Id="rId2" Type="http://schemas.openxmlformats.org/officeDocument/2006/relationships/hyperlink" Target="http://idea.ed.gov/explore/view/p/%2Croot%2Cdynamic%2CTopicalArea%2C1%2C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1676160"/>
            <a:ext cx="8001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nderstanding the IEP Pro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95280" y="3733560"/>
            <a:ext cx="64771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 803 Present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d by Erik By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s: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sde.ct.gov/sde/cwp/view.asp?a=2678&amp;Q=32073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idea.ed.gov/explore/view/p/%2Croot%2Cdynamic%2CTopicalArea%2C1%2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P Compon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98240" y="236376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mmodations and Mod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mmodations – changes the “how” of what is taught.  A change is made to the teaching or testing procedures to provide a student with access to information and to create an equal opportunity to demonstrate knowledge and skill.  Does not change the instructional level, content or criteria for meeting a standar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P Compon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42600" y="236376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the “what” we tea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dification is a change in what a student is expected to learn and/or demonstrat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ile a student may be working on modified course content, the subject area remains the same as the rest of the class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P Compon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42600" y="236376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ails special education, related services and regular edu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of related services: assistive technology, audiology, counseling, physical, occupational or speech/language therapy, school nurse, psychological or social worker services, transpor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P: Planning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before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Plac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491200" y="1461600"/>
            <a:ext cx="5154840" cy="5117760"/>
            <a:chOff x="2491200" y="1461600"/>
            <a:chExt cx="5154840" cy="5117760"/>
          </a:xfrm>
        </p:grpSpPr>
        <p:sp>
          <p:nvSpPr>
            <p:cNvPr id="126" name="_s23557"/>
            <p:cNvSpPr/>
            <p:nvPr/>
          </p:nvSpPr>
          <p:spPr>
            <a:xfrm>
              <a:off x="3163680" y="2165760"/>
              <a:ext cx="3810240" cy="370980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ff0000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23558"/>
            <p:cNvSpPr/>
            <p:nvPr/>
          </p:nvSpPr>
          <p:spPr>
            <a:xfrm rot="7200000">
              <a:off x="3213720" y="2115360"/>
              <a:ext cx="3709800" cy="381024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ffcf01">
                <a:alpha val="50000"/>
              </a:srgbClr>
            </a:solidFill>
            <a:ln w="572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23559"/>
            <p:cNvSpPr/>
            <p:nvPr/>
          </p:nvSpPr>
          <p:spPr>
            <a:xfrm rot="14400000">
              <a:off x="3213720" y="2115000"/>
              <a:ext cx="3709800" cy="381024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3366ff">
                <a:alpha val="50000"/>
              </a:srgbClr>
            </a:solidFill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23560"/>
            <p:cNvSpPr/>
            <p:nvPr/>
          </p:nvSpPr>
          <p:spPr>
            <a:xfrm>
              <a:off x="3111480" y="2682360"/>
              <a:ext cx="1162080" cy="11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1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Evaluat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23561"/>
            <p:cNvSpPr/>
            <p:nvPr/>
          </p:nvSpPr>
          <p:spPr>
            <a:xfrm>
              <a:off x="5862600" y="2680560"/>
              <a:ext cx="1162080" cy="11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2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Develop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IE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23562"/>
            <p:cNvSpPr/>
            <p:nvPr/>
          </p:nvSpPr>
          <p:spPr>
            <a:xfrm>
              <a:off x="4487760" y="5000760"/>
              <a:ext cx="1162080" cy="11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3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Placemen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lac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2600" y="2295360"/>
            <a:ext cx="7340760" cy="37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 before plac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vidually determined, based on IE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consideration must be general education with supplemental services and sup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be in the “least restrictive environment” (L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RE: “to the maximum extent appropriate children with disabilities are educated with children who are not disabled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nges and Amendments to the I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14600" y="2363760"/>
            <a:ext cx="73404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to an IEP can be made without a team meeting if the parents and district agree and develop a written document to amend or modify the current IE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EP can be amended rather than redrafting the entire document – unless the parent requests a copy of the revised IEP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533520"/>
            <a:ext cx="4800600" cy="457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1905120"/>
            <a:ext cx="4800600" cy="495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00400" y="685800"/>
            <a:ext cx="4419720" cy="43434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6858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Par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29400" y="5335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Stud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5460840"/>
            <a:ext cx="32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Roles and responsibil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at the 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5791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1981080"/>
            <a:ext cx="152424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tt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hare visions &amp; prior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sk ques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38680" y="1143000"/>
            <a:ext cx="160020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ttend &amp; Participate – when re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elf-advoc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9880" y="1981080"/>
            <a:ext cx="167652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har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mmunicate to resolve differe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cknowledge differe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3657600"/>
            <a:ext cx="17524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Observe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hi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Review/monitor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5181480"/>
            <a:ext cx="35816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mmit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Follow procedural safegu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Deliver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Collaborative Approach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ho is responsible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rincipal…………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es that IEPs are completed within 30 school days of a student's placement in a special education program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s IEPs within 30 school days of a student's placement in the program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es that IEPs are implemented and that, as part of implementation, the student's learning expectations are evaluated and updated at least once every reporting period;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e 17 - IEP Docum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Classroom Teacher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tes first-hand knowledge of the student's strengths, needs, and interests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fills the role of the key curriculum expert on how the IEP can be developed to help the student progress through the Ontario curriculum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s any modified or alternative learning expectations required to meet the student's needs, plans instruction to address those expectations, and assesses the student's achievement of the expectation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s and later implements teaching, and assessing, individualized teaching strategies that will help the student achieve his or her learning expectations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ews and updates learning expectations at the beginning of each reporting period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s ongoing communication with the student's parents, other teachers, and other professionals and support staff involved with the student  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Page 17 - IEP Docum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dividualized Education Program (IEP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EP is a written plan that describes in detail the child’s special education and related services the district will provide to meet the student’s individualized needs.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EP is a legal docu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EP is developed by the Planning and Placement T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EP is reviewed at least annual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arents have a right to receive a copy of the IEP within five school days after the PPT is hel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pecial Education Teach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s diagnostic assessments, as appropriate and if required, to determine the student's learning strengths and needs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s any modified or alternative learning expectations that fall within areas for which the special education teacher has direct responsibility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ith the classroom teacher(s) to maintain ongoing communication with the student's parents and other teachers.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e 18 - IEP Docum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Educational Assistant…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lps the student with learning activities under the direction and supervision of the teacher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sts with providing appropriate accommodations as described in the IEP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s and records the student's achievements and progress relative to the expectations described in the IEP, under the direction and supervision of the teacher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e 18- IEP Docum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tudent……………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lps the team identify his or her preferred learning styles and modalities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ists in setting annual program goals and learning expectations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Page 19 - IEP Docum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Parent…………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-to-date information about their child as it relates to the child's learning (e.g., recent assessment reports)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important information that will assist in the development and implementation of their child's educational program (e.g., the talents and skills their child demonstrates in the home and community; their child's likes, dislikes, learning styles, interests, and reactions to various situations)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ltation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Page 19- IEP Docum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ion &amp; On-going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P is linked to the report 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ents who are on “modified” programs will require a statement identifying the grade level from the curriculum they are being assessed in and the IEP box on the report card must be checked o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ents on “accommodated” only programs  DO NOT have the IEP box checked o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Page 46 – IEP document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lanning and Placement Te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964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ent must receive written notice of the meeting 5 days prior to the Planning and Placement Team (PP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eting must be scheduled at a mutually agreed on time and pla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meeting is scheduled at a time that is not convenient, the parent can request the district to reschedule or participate through an alternative method such as a conference cal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ent can bring anyone they choose to the meet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ability Categories for Eligibility for Special Edu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f-blind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f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mental delay (3-5 year old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otional disturb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ring impair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llectual disability (mental retard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disa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thopedic impair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health impair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mpair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c learning dis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or language impair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umatic brain inju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sual impairment including blind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P Compon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14240" y="2363760"/>
            <a:ext cx="66927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list of Planning and Placement Team recommendations must be record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no requirement for meeting minut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P Compon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614600" y="2363760"/>
            <a:ext cx="73404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or written notice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detail the decisions made regarding eligibility, evaluation, IEP or placement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record actions proposed or refused; 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provided at least 5 days before the decisions are put into pla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P Compon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69520" y="236376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ducation, related services and other supports must allow for a child 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ce toward annual goal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ess in the general education curriculum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te in extra-curricular and non-academic activities;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educated and participate with children who do not have disabilit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P Compon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42600" y="236376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ent level of academic achievement and functiona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s area of strength and need 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ords the impact of the disability on participation in the general education curriculu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P Compon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42600" y="236376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asurable Goals and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relate to identified areas of ne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clear and measur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note how progress will be measured and repor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03:25:32Z</dcterms:created>
  <dc:creator>Erik</dc:creator>
  <dc:description/>
  <dc:language>en-US</dc:language>
  <cp:lastModifiedBy>Erik</cp:lastModifiedBy>
  <dcterms:modified xsi:type="dcterms:W3CDTF">2009-04-24T03:52:46Z</dcterms:modified>
  <cp:revision>3</cp:revision>
  <dc:subject/>
  <dc:title> Understanding the IEP Process</dc:title>
</cp:coreProperties>
</file>